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8EB6-6DFE-4705-A83F-5EAF504A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287-4306-420A-91BE-50AE49B0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BC676-ACA2-402E-AE0E-186F1496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740BB-0A23-4F58-BC68-DD8B0277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42122-D5FE-4BB3-AC28-E64125BC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B0767-A56A-4023-8096-88C91BAB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0A536-2406-4804-BF82-E58826E1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E5FDD-F958-488E-AAE0-DFC95E7A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80A6F-29AD-4A97-BE07-D36E8767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A4E15-A619-473D-A1F8-530A7F9D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F29DF-C043-4E2E-B39B-34F8F743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12874-1AF2-4CBC-A3D2-07AD7F60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EB7-E2EF-4730-AE35-E7573A77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FAC36-F1B0-4CE9-A142-2EDC9B1B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6F5EF-370F-4FC1-B4C8-A84D02BA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3AD33-A4B6-4E2B-9237-8E914D67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67393-3273-4CE1-BA38-33F20AED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4EB63-D930-4200-9F61-D5C7A767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0B9CF-3F13-4BC0-8CD3-540B6496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3D335-8561-4E9F-8697-AFE87BF6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48C71-8375-4979-B18F-B0F76D55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1F5CE-2641-4DE4-9CC7-3B1641FA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0A487-A3DC-4A81-91D3-FF78E15A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DC12-10F1-4075-A108-A4283097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7CDDE-9215-450B-8BDE-5BFDCDB9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233DA-76F2-4687-9A0A-914FDEA8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10529-7CC3-4BA6-A26C-BA74D911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ABD93-D122-4513-87DC-9A515EE6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105B4-2020-42FF-BA12-1956EF2A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49F0E-1E29-47F6-A914-607AAFD8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97DA4-5345-459F-9067-F6AF5308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F25E8-E356-442E-B482-7D2F8675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B69D9-83BC-4F5F-89B5-11A20491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8A02B-0B81-40AD-8679-B6C9CD3B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416C-BD60-4725-A50A-3720DC52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2CC9B-032F-4F99-8317-C702772B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8604C-899E-42F2-BCF9-5669DDCD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DF4AF-06E2-4D77-B72E-52C7C79A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141B8-0A1B-4FC8-8214-8A525FDC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26B54-4223-41BF-8EFE-2CD8F1E5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2CE71-4471-4019-9493-FD21686D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6A3E0-DA76-4FAA-90D2-D1F1BFBC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43ECB-DC0B-441F-A001-7760DB0D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18712-28C9-4F5C-B979-72007413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4D5AE-9DFB-4423-A56E-E39BFF23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D16C-176B-4444-8634-7BC7BA9B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410D9-252C-469B-B523-DD2D9603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CEB29-1A6F-48BC-B794-929E8310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3E5A0-9379-4E02-852B-DDD2D2AA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081E9-2C0E-45CC-8D2E-1DA9EBBF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3EEDB-B337-407D-9130-820C5D78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B203CC-8BD7-4653-BA16-289CF32D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C8D17D-FBF0-4339-AF24-602BB9DA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C995C-3B73-4E99-A021-D596DAB9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087A90-6EDF-4D00-8A58-B98FAA09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B36BF-1263-4FED-80E1-A6364ADA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DB0B-6998-4EC2-9D66-C6B235FC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6902F7-9052-431A-BCF7-A046E6CD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C5F2DF-814E-44B6-AFC5-BD21B52B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6A76B6-4A22-4C87-A5E4-A2CD9D12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E8DBE3-F208-4A3C-92A7-DF63F8C2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5B769B-1FDC-4451-AC08-A86E63F2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0E5E76-211E-4843-9AAD-D017A67E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CC879E-A4C3-4F92-BC65-1DD3B3EB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1C977B-840C-4B00-88D1-2A9974C6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A61EA2-5666-4AC6-A888-FE32DE10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8C2A76-2BD2-4BD3-8F83-316BAC35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AEBE-29DC-46DF-9619-E03093A7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4C75BF-5F44-44D1-A2A5-29B70921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1ECAF4-ED26-4A61-ADCB-684C7D42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DDBCBB-77FA-4D17-BB3E-98FE7C12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C36B4C-46D8-4068-8228-F21D96F8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86F98F-F6CA-4544-BAFF-8ED6497D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05EAAC-4D8E-4D4A-8DB0-59B08A0E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F80019-F434-4F3D-8712-D01CF2B6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4F4AA3-8191-4C09-ABF2-386013A4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84E30E-AA24-4CFB-A0DD-4F6BB74C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C4E006-979B-4B6A-A90A-533F5546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9E8F-866F-4C32-8FF9-0B7A4934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FC920D-9204-4055-8450-22AC58F0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AC872E-6599-41B1-8354-EDD58A65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13DC30-7BA7-4179-8BAE-3877AC96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1D5980-B703-4EF9-A61C-8F69CF42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3AAC0F-3A2E-45B8-81B3-0AE4E138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05386E-74F8-48D6-B993-92DF43C1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B339B8-02ED-47C7-97EC-28D83CC3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7346F2-129D-4450-BF69-3F767F21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BE32BD-C46D-475C-87D0-C3EFBE77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EF95D-3BFC-48E1-9BA6-1673EDC0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EB1A-7A66-40E2-8D81-8288D15B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619D20-0986-4E46-8082-EBAEEBB5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53DCF7-3FBC-433C-A08F-5D86980F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D5473B-30B3-475A-9BAF-8ADE1789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385917-279D-4616-917A-7CE6E192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174C7A-4603-4F05-98E0-823EFEFC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4D9B76-8272-4AF1-97D4-CB3BD1D0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560A91-C3BA-4852-8684-CFAAFC8F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2E740C-B7AD-4EF0-A259-851732DD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E0DFCB-2A1E-43DA-ACDB-057B405D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FC3B36-CD09-49F5-98C4-F9283E26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DCB6-9422-4D48-9EBC-4135F7CA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DDE528-E758-4CAC-B307-79064EF1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8730F9-0D8D-4FA0-82EA-DFD15781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B22496-287A-4D4E-A043-349020CD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420A0D-1F77-4D2D-9DEE-C8564206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E622AA-B55C-41DC-AB93-A388740B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AC6AD9-B075-45FF-9827-5B074AA7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E2B363-C644-44E0-BB09-2E6E25E4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9607B1-9B0A-41EF-A147-A3A87A4B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8784CB-DF0B-4389-A580-ABA2A02E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64841B-DF9A-451D-9CDE-C2D39EC9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9CC-A932-4BA5-9C42-FDB57758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9EB8-C541-4933-ADFE-C5EAD3B1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3E6B06-5FB6-45C2-B9EE-7F02A675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F0A295-8821-4A71-AC9A-4DEEFCDF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954597-166D-43C2-8592-C79F2E80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3E6748-527E-43A9-84D3-B2D1F6C2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0CB33C-2E5E-442F-A758-E977927B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B382DD-2E69-49E5-AD7D-21677BE8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88A3F1-5098-407D-A036-A254A831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646124-47B5-42BC-8594-512EA0FD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730D49-E1F2-406C-AF33-51DCBA5E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29A407-FB48-4B1A-94F9-689C55A2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6027-738B-471E-B0B8-90D11030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ADFBFB-B07A-4A9E-B556-19A45334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FBB2ED-F7A7-496C-9404-8D6D5242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1113EF-5660-44FB-BFB4-D2624E3F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8A90D3-5F77-4FC1-8640-E0A0D268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BDDAB0-8BF2-44C8-A3A7-2B682F0F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3AF72E-0F18-44C3-BCA3-9F801BD8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BAFD43-CF06-465B-A27C-FC6FDF58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688C5A-2391-4B98-9B3B-2A562A6A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E33B7C-C2BE-49A3-9B6C-89A635F7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434FA5-7592-49D2-B756-4AC00056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F91F-54E0-496C-9DFC-50219B30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7329F3-C6A0-40B9-B41B-A893C57C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E4F7A8-9423-4BF5-8CB5-A848FA18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6CD099-C22F-4C30-8A8E-EFEC30EA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2A9789-EC9A-4CB2-8288-04A1B7E0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CFEB26-1051-4E2B-BC50-DE80F3C9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6EA433-ED27-4B8F-9182-0C90530C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900B62-5961-44E9-9166-E62CF918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B212A6-815C-4CB8-9E1F-AFF00D7B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306271-8A60-4214-8283-D49E0EA3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1311FD-ADD9-4015-A485-FA8D1E21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0DF3-DCCD-49E8-AC2F-878C6D13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C3DE4F-DD16-4B8A-9594-050E0521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A43E78-FA04-4655-B273-F9E259C0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D99F0E-604C-4990-A822-A2C04FFC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0E193B-65E8-4D07-A63B-F520DC96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1DF7BF-D935-4AB2-8BCB-DA540CDB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B264DB-9FF2-455E-8D46-508B81DE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116087-63BE-4B41-96AE-295AC5D5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4697F7-F432-4B7D-9226-9AA8AFAC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FBF05E-64BB-49B2-AE01-83484B09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C16568-484B-4599-9685-47F5A487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E278-CE41-4BBC-9DE4-4C8B4AB5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D409B4-DAC0-4C82-88AC-C3CD64A3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E8EE19-36EC-44B9-94E2-D743F352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D1547F-810C-48A3-9124-97A23C54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A04EA7-3646-400E-9369-C4DC597E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A6071F-A5CB-4BDF-A363-52C9887F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481873-7DEC-498F-9A17-D4DD563E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5DC0BD-522E-49F7-A89B-A527C027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0300D6-879C-4D97-83CC-07CC60DB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20F96A-EAC7-469F-A467-02DC539A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7F19DA-486A-40B5-8A6A-F42FE1D9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8C634-DD48-4F91-9F51-C56A24DC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2D60D6-BF7A-4A8F-B081-6AC23D5B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15B0F0-0557-4370-852D-D0D9D9DA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B3DDA0-8857-4693-896B-BAA52E0B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D5E0C-35B2-4968-8C4B-7F4B14A3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B1E5F-E2F1-4403-88B9-0F095436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2EC24-42FF-486A-A703-3DC369BD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D4EE4-73C2-4C2A-B4A5-22C3F12C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2C3A-6B51-49A0-9224-11AE769B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8402A-A13F-4468-BF34-C691E958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6081A-EE28-4AFF-97B4-278492C2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41330-28F7-4CAC-BF47-7928455A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A19BA-C286-434B-BA2D-75AC3ED1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09E77-7D09-442F-8709-0941CC9A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29B66-A4D8-4C34-B02D-A630EA01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75B6B-EFCA-409A-8A87-600FEF56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EF975-5010-422C-8485-915C5561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A3499-33A7-473B-977C-6AF4C46C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61462-6045-488F-B17C-5F525092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BB95-8908-4557-84F6-9A5E17BB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EA665-32C2-49E8-9D0D-7B9F67A7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311AD-2731-4FCD-A5C2-67263105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CBF3A-258E-4C8C-983A-FDD99146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562D2-5050-4ED8-8F2F-EF3A941A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3930F-636C-4553-B7B9-C48118E8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BB429-878B-4BB0-9779-AB25C602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A5541-9900-4682-9F76-4646D0C6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C9E24-06C3-4C27-8087-E897A790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926EE-FE78-45E2-8463-96D910EB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A8478-F923-47C6-9B6D-425D09F1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08D-839A-4155-8671-F2953562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92FC7-E10D-48AC-AEF4-239919DB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08455-9505-4FD9-9335-068C93E3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DE99D-D506-46CF-B62B-3A69C052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20B8D-D5A8-457D-9FD5-067E797F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9F2F2-8550-4005-8674-F7E4E872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637F6-9F2E-4C8F-BD55-612C0A40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1C416-88A2-4748-B7E5-742EC565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51AA2-9395-45BA-A899-76CA760F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87922-42F2-409A-88C7-6FC6745A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02863-5D78-4193-B31E-AC3CBDC7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124-DFAE-426C-8CF7-2C7680BE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9D190-3A4E-40FF-B677-4F13C605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73114-D861-4820-9096-52671ACE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28AD4-4486-4246-96AA-E0B7B918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BB63F-FE8F-4DC6-8459-841A4744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D8F2E-B760-4475-AB8A-250FED4E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5B162-15A7-4EE5-B47D-B2386377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1972B-4662-4B75-988D-DF173A7E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A2DA3-9206-4F57-99C6-32FD91B7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3C3C0-70B3-4304-BC08-94485D31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F549A-4F80-4163-A7E6-7C95526A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4A1B-C9CE-44C9-AFFC-AD21EF21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45704-616B-4413-8894-A8CD876D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9B885-254A-4017-8B62-0F54ADB0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D8E6A-AC79-4D60-999B-B0D348A2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CC1A3-4310-4C7C-8485-65B80D7E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B3D70-13AA-4613-9702-67C5D7D5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75B3D-704B-4D28-B76B-53137DA2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765B6-62C7-4DE4-8E3A-F821F8C5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50505-CD56-4E40-8271-71273976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9F8DB-D9CC-4539-BA08-A807E9E2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8029F-F6C8-4D9C-81DD-73295564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E67D-57F5-4623-9BA6-23DB7986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8CBE0-81F8-42C8-8781-B6A310FB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9CA83-68E1-486D-83F7-7489E9D8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03EBE-CE1E-4B38-B74F-6F814716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A1D43-7A7F-4A19-A8E1-1E2B8CAA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0E07C-DF52-4FF8-A8EE-47CB5C82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513F5-3D18-4A72-98D5-00E0CAA4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F614E-2F9F-4EE4-93F8-225B64BC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2903D-C563-4E37-A83F-840DC848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41AF2-7F64-46E3-A646-3D807718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63B5E-3E45-4B7B-AA63-430CC340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7D44-4BBE-4324-A55B-FFF59916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60F65-0BC9-4A48-A244-EC160B64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240C5-02BB-4DC0-B39F-E968C965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45DFD-0933-4791-8170-DEC60435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51856-D730-4B1E-913F-439B6BBB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B24F9-5E74-478E-AE69-02515E22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AB441-5EED-4B12-9BA5-D5C788AC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429B2-9430-4005-BF3D-6CBE327C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064C4-6987-4C28-8D9C-48A4530B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AA813-0954-403C-80D2-C389DA56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B6B84-996F-4C02-BF39-883C92DF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5007-B0AB-446B-B8C3-9B9DC0CCD5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9519-B153-499D-AAF5-83827B8AB8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0FCF-C423-4DB7-8DE5-74676A987C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C2B8-C222-4DFF-A4ED-1EAAC12545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472A-9E84-456C-9B75-4E12D0FA18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4D24-6F24-4BD3-A8EF-B6BBD2DA52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AA1A-0005-4AE5-A830-B50B19B4A4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9D26-1ED6-4933-B355-67F2C93050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B5CD-3731-4615-8585-E1ED0CF239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6AF8-181E-4153-B60B-6000C80A5E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33FB-3BEF-49B8-B6D8-D8C7F60C06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0FCB-6935-4A7E-B218-F783D8BC1A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FA3D-5211-4898-AAF3-3E424B1E3B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7DB8-6120-424B-A7F8-A30779AF44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CA8A-AA4D-4E08-9AB3-131321489F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50B1-4EEE-4191-896C-E71C830057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A242-B692-45B4-9558-2FFDCC4391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8EE2-0E01-41C1-A395-EF9A3EFEF4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8B2F-41BE-450F-A831-573174F1A1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8AB9-C41D-4309-B05B-627F3EBCB0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9F9F-F782-4D33-B135-782AA1E5C2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9164-CBB6-44AD-ACAD-4E74CA5A95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CF3B-FDE9-4C53-ACC2-7A768A926C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BFD2-BCC8-4996-A04B-44F8F6678D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BEE8-55AC-4B2E-8AF3-53093253E3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FA68-FEE7-4EBA-BE41-70FC60363E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8772-5DE9-43A2-A1A2-1A27AC757A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F733-6A34-42EB-A4E7-F77D3FD2D6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C92A-7681-419C-A424-F3EA418959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DA39-E97F-495A-A359-3B17D2592D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4E8B-FE92-4A37-B95C-CD94ED9797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2726-7300-4EF7-BEEA-76D78EDCA6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AB8A-E324-4072-8DE7-80E9ED1BA2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9AC7-732D-40B4-9D54-49154067D6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80C3-70C0-450C-858D-CB3B4F027D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8779-B28F-4D8B-BACA-072BBADAEB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99B1-8C52-4870-83B6-2119A45342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4D4D-69B9-4476-8AC8-B6B639F199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38CA-4BEA-4E98-A0BD-2A809BE0C9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2D8E-69D6-4F6D-AE37-66AF25EE86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86160" y="2143080"/>
            <a:ext cx="2371680" cy="78120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214280" y="3506760"/>
            <a:ext cx="67154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2231" descr=""/>
          <p:cNvPicPr/>
          <p:nvPr/>
        </p:nvPicPr>
        <p:blipFill>
          <a:blip r:embed="rId1"/>
          <a:stretch/>
        </p:blipFill>
        <p:spPr>
          <a:xfrm>
            <a:off x="1033560" y="1413000"/>
            <a:ext cx="7076880" cy="2200320"/>
          </a:xfrm>
          <a:prstGeom prst="rect">
            <a:avLst/>
          </a:prstGeom>
          <a:ln w="0">
            <a:noFill/>
          </a:ln>
        </p:spPr>
      </p:pic>
      <p:pic>
        <p:nvPicPr>
          <p:cNvPr id="953" name="图片 52232" descr=""/>
          <p:cNvPicPr/>
          <p:nvPr/>
        </p:nvPicPr>
        <p:blipFill>
          <a:blip r:embed="rId2"/>
          <a:stretch/>
        </p:blipFill>
        <p:spPr>
          <a:xfrm>
            <a:off x="338040" y="3830760"/>
            <a:ext cx="8467920" cy="21906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4413240" y="1916280"/>
            <a:ext cx="806400" cy="4791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7294680" y="1989000"/>
            <a:ext cx="1128600" cy="4795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4384800" y="2635200"/>
            <a:ext cx="806400" cy="4795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6"/>
          <a:stretch/>
        </p:blipFill>
        <p:spPr>
          <a:xfrm>
            <a:off x="7265880" y="2708280"/>
            <a:ext cx="1128960" cy="4795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7"/>
          <a:stretch/>
        </p:blipFill>
        <p:spPr>
          <a:xfrm>
            <a:off x="1849320" y="4365720"/>
            <a:ext cx="1128960" cy="4791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8"/>
          <a:stretch/>
        </p:blipFill>
        <p:spPr>
          <a:xfrm>
            <a:off x="4932360" y="4365720"/>
            <a:ext cx="1128600" cy="4791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9"/>
          <a:stretch/>
        </p:blipFill>
        <p:spPr>
          <a:xfrm>
            <a:off x="8345520" y="4292640"/>
            <a:ext cx="619200" cy="479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10"/>
          <a:stretch/>
        </p:blipFill>
        <p:spPr>
          <a:xfrm>
            <a:off x="1863720" y="5013360"/>
            <a:ext cx="1128600" cy="4795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1"/>
          <a:stretch/>
        </p:blipFill>
        <p:spPr>
          <a:xfrm>
            <a:off x="5105520" y="5013360"/>
            <a:ext cx="792000" cy="4795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12"/>
          <a:stretch/>
        </p:blipFill>
        <p:spPr>
          <a:xfrm>
            <a:off x="8359920" y="5037120"/>
            <a:ext cx="6188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96000" cy="5915160"/>
          </a:xfrm>
          <a:prstGeom prst="rect">
            <a:avLst/>
          </a:prstGeom>
          <a:ln w="0">
            <a:noFill/>
          </a:ln>
        </p:spPr>
      </p:pic>
      <p:pic>
        <p:nvPicPr>
          <p:cNvPr id="924" name="图片 60430" descr=""/>
          <p:cNvPicPr/>
          <p:nvPr/>
        </p:nvPicPr>
        <p:blipFill>
          <a:blip r:embed="rId2"/>
          <a:stretch/>
        </p:blipFill>
        <p:spPr>
          <a:xfrm>
            <a:off x="933480" y="2054160"/>
            <a:ext cx="75340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299880" y="1838160"/>
            <a:ext cx="8544240" cy="31816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4932360" y="322740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7596360" y="3284640"/>
            <a:ext cx="576000" cy="4791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4"/>
          <a:stretch/>
        </p:blipFill>
        <p:spPr>
          <a:xfrm>
            <a:off x="6588000" y="3803760"/>
            <a:ext cx="57636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76801" descr=""/>
          <p:cNvPicPr/>
          <p:nvPr/>
        </p:nvPicPr>
        <p:blipFill>
          <a:blip r:embed="rId1"/>
          <a:stretch/>
        </p:blipFill>
        <p:spPr>
          <a:xfrm>
            <a:off x="299880" y="866880"/>
            <a:ext cx="8544240" cy="56577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5940360" y="544500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7667640" y="544500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2771640" y="606420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4427640" y="6035760"/>
            <a:ext cx="576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662040" y="971640"/>
            <a:ext cx="7819920" cy="49147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6877080" y="1052640"/>
            <a:ext cx="576360" cy="4791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1763640" y="164304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7164360" y="256536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4859280" y="378936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6"/>
          <a:stretch/>
        </p:blipFill>
        <p:spPr>
          <a:xfrm>
            <a:off x="1763640" y="5243400"/>
            <a:ext cx="576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7352" descr=""/>
          <p:cNvPicPr/>
          <p:nvPr/>
        </p:nvPicPr>
        <p:blipFill>
          <a:blip r:embed="rId1"/>
          <a:stretch/>
        </p:blipFill>
        <p:spPr>
          <a:xfrm>
            <a:off x="309600" y="1643040"/>
            <a:ext cx="8524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6324" descr=""/>
          <p:cNvPicPr/>
          <p:nvPr/>
        </p:nvPicPr>
        <p:blipFill>
          <a:blip r:embed="rId1"/>
          <a:stretch/>
        </p:blipFill>
        <p:spPr>
          <a:xfrm>
            <a:off x="671400" y="1109520"/>
            <a:ext cx="7801200" cy="46389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7848720" cy="7920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539640" y="2133720"/>
            <a:ext cx="7848720" cy="7920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468360" y="3083040"/>
            <a:ext cx="784872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304920" y="828720"/>
            <a:ext cx="8534160" cy="52005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324036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4276" descr=""/>
          <p:cNvPicPr/>
          <p:nvPr/>
        </p:nvPicPr>
        <p:blipFill>
          <a:blip r:embed="rId1"/>
          <a:stretch/>
        </p:blipFill>
        <p:spPr>
          <a:xfrm>
            <a:off x="214200" y="1465200"/>
            <a:ext cx="8715600" cy="5276880"/>
          </a:xfrm>
          <a:prstGeom prst="rect">
            <a:avLst/>
          </a:prstGeom>
          <a:ln w="0">
            <a:noFill/>
          </a:ln>
        </p:spPr>
      </p:pic>
      <p:pic>
        <p:nvPicPr>
          <p:cNvPr id="948" name="图片 54277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143240" cy="11523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5508720" y="1654200"/>
            <a:ext cx="576000" cy="4795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1979640" y="616572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6659640" y="6165720"/>
            <a:ext cx="576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07:3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